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B09A-4C49-49AD-85A2-12944FD3B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6DF7-3CAB-4EA9-895A-23A58935D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1D6-E931-4DF8-BC1B-28CDEEAB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559-A41A-404B-8749-25B02FE6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BDD-0CC6-47C0-9478-9F7C8DF0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015-0E5E-4775-A4BC-9A30F3F9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B1A-E446-4EB9-838A-5AE027EB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EBA-4C5D-4777-A138-E5B73264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A23-1C90-4E5E-B3B0-00766BA1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459-D5BB-435B-B476-D404F49C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C9F-6A64-4DC1-AD7D-0B7620FB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CCB-F81A-4579-9503-E502654F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613-B80A-4352-91D4-0BB398FC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C3C-70BA-4A96-A875-898EEC5F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7729-8CDD-462B-A089-4A1A1A83CB5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2151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ИНИСТЕРСТВО СПОРТА, ТУРИЗМА И МОЛОДЕЖНОЙ ПОЛИТИКИ РОССИЙСКОЙ ФЕДЕРАЦИ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ГОУ "ГОСУДАРСТВЕННАЯ ШКОЛА ВЫСШЕГО СПОРТИВНОГО МАСТЕРСТВА ЦЕНТР ПОДГОТОВКИ СБОРНЫХ ЮНОШЕСКИХ, ЮНИОРСКИХ И МОЛОДЕЖНЫХ КОМАНД РОССИИ«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РОССИЙСКАЯ ФЕДЕРАЦИЯ ЛЕГКОЙ АТЛЕТИКИ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ГУП "ЮЖНЫЙ ФЕДЕРАЛЬНЫЙ ЦЕНТР СПОРТИВНОЙ ПОДГОТОВКИ" (ФГУП "ЮГ СПОРТ"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7058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000000"/>
                </a:solidFill>
                <a:latin typeface="바탕"/>
                <a:ea typeface="바탕"/>
              </a:rPr>
              <a:t>IV этап соревнований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000000"/>
                </a:solidFill>
                <a:latin typeface="바탕"/>
                <a:ea typeface="바탕"/>
              </a:rPr>
              <a:t>V летней Спартакиады учащихся России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по легкой атлет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000000"/>
                </a:solidFill>
                <a:latin typeface="바탕"/>
                <a:ea typeface="바탕"/>
              </a:rPr>
              <a:t>2011 года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7.08.2011 г.                                  г. Сочи ст. ФГУП «ЮГ СПОРТ</a:t>
            </a:r>
            <a:r>
              <a:rPr b="1" lang="ru-RU" sz="1600" spc="-1" strike="noStrike">
                <a:solidFill>
                  <a:srgbClr val="898989"/>
                </a:solidFill>
                <a:latin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5438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00000" y="1338120"/>
          <a:ext cx="7570800" cy="5181840"/>
        </p:xfrm>
        <a:graphic>
          <a:graphicData uri="http://schemas.openxmlformats.org/drawingml/2006/table">
            <a:tbl>
              <a:tblPr/>
              <a:tblGrid>
                <a:gridCol w="3125880"/>
                <a:gridCol w="1598760"/>
                <a:gridCol w="799920"/>
                <a:gridCol w="204624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. Целебриц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Шп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Злоб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е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Хавж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й менедж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Уй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-Петерб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ник менеджера по кад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Егиазаря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Трубоч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вертик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Калю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г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горизонт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 н/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Демья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ногоборь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авенк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-Петерб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спортивной ходь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Пятае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ретарь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Бл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г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омендантской служ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Чиж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 н/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Пеш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награжд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Камчатни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г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Прямоугольник 4"/>
          <p:cNvSpPr/>
          <p:nvPr/>
        </p:nvSpPr>
        <p:spPr>
          <a:xfrm>
            <a:off x="900000" y="333360"/>
            <a:ext cx="73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IV этап соревнований V летней Спартакиады учащихся Росс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о легкой атлетике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5-7.08.2011 г.                                                                               г. Сочи ст. ФГУП «ЮГ СПОР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1-08-06T17:23:59Z</cp:lastPrinted>
  <dcterms:modified xsi:type="dcterms:W3CDTF">2011-08-06T17:33:36Z</dcterms:modified>
  <cp:revision>26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